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01B5-8C7A-41FB-847A-F284F1374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4BAC-AEB1-4772-A16F-D2C4AAB26CA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3E88-AD5A-49DA-B2C0-A18D40F297C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Activitatea  2 </a:t>
            </a:r>
            <a:br>
              <a:rPr sz="1200"/>
            </a:b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Susţinerea activităţii proprii de învăţare a elevulu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8FFB-E124-40F4-B804-9FC988AE54C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8EA1-AA2A-4B24-B37E-668C5881028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3826-6CE9-45B2-8D82-2C4148E4AC6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5412-635C-4C47-9C8C-26D9C8F5361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F538-CF20-4109-98B8-8363849F38F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0EDB-3369-4D2B-B89D-3E511610101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B992-FA9A-4C4E-A84C-2903C8F272E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9427-228D-4D2C-B3C9-80AD6DF515A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4C57-1D6B-485C-8ED2-1515FA90244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1CA9-3453-452E-B223-8A8ED11E460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38D5-3F69-4DF3-ACE5-9AB4F4A82E0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461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Postaţi pe site-ul wiki al grupei răspunsurile la întrebările de mai sus, sub formă de Comentari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461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ttp://isc4lugojna.wikispaces.com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6560-B5EF-4F14-82C7-598BF207B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A917-C429-4629-A27C-D3C05E158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9D57-E359-4DBC-9C04-194E5C0CB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1CBF-B469-4E04-9023-D884E33F2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0E63-5458-42DC-8875-F16893CA8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B3AB-D732-4EE7-8FEC-2D83E5E4E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6ED6-2DE2-421E-B243-81C7CA915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5841-D582-461E-9F35-81297A9CA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01F7D-80DA-42CF-AA78-C9ED14639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378A-BC33-461F-8A5B-2FB3DADFC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711A-5BAB-4ADF-BE81-629402E28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7D21-6650-4AF4-BC42-128C7A49A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7563-5083-4747-8AE3-4410F6A2B01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6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2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2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7" descr="GM__2313"/>
          <p:cNvPicPr/>
          <p:nvPr/>
        </p:nvPicPr>
        <p:blipFill>
          <a:blip r:embed="rId1"/>
          <a:stretch/>
        </p:blipFill>
        <p:spPr>
          <a:xfrm>
            <a:off x="0" y="0"/>
            <a:ext cx="9144000" cy="6026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0120" y="411444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Verdana"/>
              </a:rPr>
              <a:t>Intel Teach – Predarea în societatea cunoaşterii</a:t>
            </a:r>
            <a:endParaRPr b="1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0" name="Picture 10" descr="intelEDU_wht_lrg [Converted]"/>
          <p:cNvPicPr/>
          <p:nvPr/>
        </p:nvPicPr>
        <p:blipFill>
          <a:blip r:embed="rId2"/>
          <a:stretch/>
        </p:blipFill>
        <p:spPr>
          <a:xfrm>
            <a:off x="6759720" y="490680"/>
            <a:ext cx="1774800" cy="885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3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287280" y="618336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9499-9508-480F-8A0B-9888843E9C7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11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Practici pedagogice</a:t>
            </a:r>
            <a:br>
              <a:rPr sz="2400"/>
            </a:b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 Susţinerea elevilor prin metoda proiectului în cazul învăţării centrate pe elev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(6.02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9840" y="1661760"/>
            <a:ext cx="83250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În proiecte elevii trebuie încurajați și solicitaţi să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ia decizii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să lucreze în colabor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să preia iniţiativ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să efectueze prezentări publice,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T</a:t>
            </a:r>
            <a:r>
              <a:rPr b="0" i="1" lang="ro-RO" sz="2400" spc="-1" strike="noStrike">
                <a:solidFill>
                  <a:srgbClr val="0860a8"/>
                </a:solidFill>
                <a:latin typeface="Verdana"/>
              </a:rPr>
              <a:t>oate acestea pot fi dificile la început pentru aceştia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Elevii care s-au obişnuit să fie “</a:t>
            </a:r>
            <a:r>
              <a:rPr b="1" i="1" lang="ro-RO" sz="2000" spc="-1" strike="noStrike">
                <a:solidFill>
                  <a:srgbClr val="7030a0"/>
                </a:solidFill>
                <a:latin typeface="Verdana"/>
              </a:rPr>
              <a:t>observatori</a:t>
            </a: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” sau “</a:t>
            </a:r>
            <a:r>
              <a:rPr b="1" i="1" lang="ro-RO" sz="2000" spc="-1" strike="noStrike">
                <a:solidFill>
                  <a:srgbClr val="7030a0"/>
                </a:solidFill>
                <a:latin typeface="Verdana"/>
              </a:rPr>
              <a:t>spectatori adormiţi</a:t>
            </a: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” pot avea reacţii de respingere faţă de activităţile solicitante, în special dacă rolurile pasive reprezintă “</a:t>
            </a:r>
            <a:r>
              <a:rPr b="1" i="1" lang="ro-RO" sz="2000" spc="-1" strike="noStrike">
                <a:solidFill>
                  <a:srgbClr val="7030a0"/>
                </a:solidFill>
                <a:latin typeface="Verdana"/>
              </a:rPr>
              <a:t>reacția</a:t>
            </a: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”  și la alte materii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4280" y="1511280"/>
            <a:ext cx="8532720" cy="41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860a8"/>
                </a:solidFill>
                <a:latin typeface="Verdana"/>
              </a:rPr>
              <a:t>Brainstorming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răspundeţi la următoarele întrebări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Cum îi pot ajuta pe elevii mei să-şi autodirecţioneze învăţarea şi să aibă capacitatea de a lua decizii optime pentru finalizarea sarcinilor proiectului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Cum putem forma la elevi obişnuinţa de a investiga şi de a căuta răspunsuri la întrebările complexe/deschis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Cum putem încuraja şi susţine elevii în timp ce îşi asumă roluri noi care se potrivesc cel mai bine talentelor lor individual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Ce modele putem furniza pentru a ajuta elevii să reflecteze şi să-şi valorifice curiozitatea naturală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Postaţi concluziile pe wiki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thttp://isc4lugojna.wikispaces.com 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9B2F-EDCA-417F-AF51-4BBA25EE637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Practici pedagogice </a:t>
            </a:r>
            <a:r>
              <a:rPr b="1" lang="ro-RO" sz="1400" spc="-1" strike="noStrike">
                <a:solidFill>
                  <a:srgbClr val="ff0000"/>
                </a:solidFill>
                <a:latin typeface="Verdana"/>
              </a:rPr>
              <a:t>4 grupe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1100" spc="-1" strike="noStrike">
                <a:solidFill>
                  <a:srgbClr val="0860a8"/>
                </a:solidFill>
                <a:latin typeface="Verdana"/>
              </a:rPr>
              <a:t>15min</a:t>
            </a:r>
            <a:br>
              <a:rPr sz="2200"/>
            </a:b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Susţinerea elevilor să lucreze prin metoda proiectului în cazul învăţării centrate pe elev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6.02)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A59E-C8DA-471E-97AC-8C97C76FA90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560" y="272520"/>
            <a:ext cx="8761320" cy="21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 1 Cunoaşterea elevilor</a:t>
            </a:r>
            <a:r>
              <a:rPr b="1" lang="ro-RO" sz="1100" spc="-1" strike="noStrike">
                <a:solidFill>
                  <a:srgbClr val="0860a8"/>
                </a:solidFill>
                <a:latin typeface="Verdana"/>
              </a:rPr>
              <a:t>40min</a:t>
            </a:r>
            <a:br>
              <a:rPr sz="1100"/>
            </a:br>
            <a:br>
              <a:rPr sz="1200"/>
            </a:b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redarea plia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t</a:t>
            </a: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ă pe nevoile elevilor schimbă atitudinea acestora şi se obţin rezultate bune în procesul educativ. </a:t>
            </a:r>
            <a:br>
              <a:rPr sz="1800"/>
            </a:b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levii au nevoie de condiţii adecvate nevoilor lor şi de sprijin individualizat. </a:t>
            </a:r>
            <a:br>
              <a:rPr sz="1800"/>
            </a:b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valuările formative îi ajută pe profesori să proiecteze activităţi didactice care să corespundă nevoilor tuturor elevilo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9880" y="2644920"/>
            <a:ext cx="8536320" cy="37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Stilurile diferite de învăţare ale elevilor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6.04)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20min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ownload-ati fişierele propuse de pe site-ul wiki /Modul 6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Lucraţi în grupe de 3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. Fiecare membru al grupului va citi un fişier de facilitare şi va comunica celorlalţi membri ai echipei noţiunile esenţiale despr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425520" indent="-177840" algn="just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stilurile de învăţar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: vizual – auditiv - chinestezic/pract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425520" indent="-177840" algn="just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rtea stângă a creierului/partea dreaptă a creierulu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425520" indent="-177840" algn="just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inteligenţele multip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42552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2" marL="425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Prezentaţi-vă opinia despre modul în care aceste abordări ale învăţări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425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pot avea implicaţii asupra modului în care unitatea proprie de învăţ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425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răspunde nevoilor elevilor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C4AC-A60A-4213-9156-B90E50C8DBC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2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tatea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1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unoaşterea elevil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30200" y="11696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lnSpc>
                <a:spcPct val="90000"/>
              </a:lnSpc>
              <a:spcBef>
                <a:spcPts val="10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2: S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usţinerea elevilor cu nevoi speciale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860a8"/>
                </a:solidFill>
                <a:latin typeface="Verdana"/>
              </a:rPr>
              <a:t>20min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6.06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v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izuiţi materialele de pe CD resurse curriculum pentru facilitarea nevoilor tuturor elevilor şi analizaţi modul în care aţi putea include unele din aceste strategii în unitatea dumneavoastră de învăţare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550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Analizaţi materialele informative de la Modulul 6, Activitatea 1, din CD resurse curriculum şi gândiţi-vă ce strategii vă vor ajuta să vă adaptaţi tuturor nevoilor elevilo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100" spc="-1" strike="noStrike">
                <a:solidFill>
                  <a:srgbClr val="0860a8"/>
                </a:solidFill>
                <a:latin typeface="Verdana"/>
              </a:rPr>
              <a:t>Aveţi în vedere liniile directore de la pagina 6.07.</a:t>
            </a:r>
            <a:endParaRPr b="0" lang="en-US" sz="11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Sondaj instruire diferenţiată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eschideţi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lanul unităţii de învăţare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la secţiunea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Ajustări  pentru diferenţierea instruirii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Scrieţi o schiţă a strategiilor pe care le veţi folosi la secţiunea </a:t>
            </a:r>
            <a:r>
              <a:rPr b="1" i="1" lang="ro-RO" sz="2000" spc="-1" strike="noStrike">
                <a:solidFill>
                  <a:srgbClr val="0860a8"/>
                </a:solidFill>
                <a:latin typeface="Verdana"/>
              </a:rPr>
              <a:t>Facilităţi pentru instruirea diferenţiat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B0AD-B0AC-4088-B06C-989EAB84331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4960" y="213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2 </a:t>
            </a:r>
            <a:r>
              <a:rPr b="1" lang="en-US" sz="1100" spc="-1" strike="noStrike">
                <a:solidFill>
                  <a:srgbClr val="0860a8"/>
                </a:solidFill>
                <a:latin typeface="Verdana"/>
              </a:rPr>
              <a:t>1ora</a:t>
            </a: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S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usţinerea activităţii proprii de învăţare a elevului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1: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naliza evaluărilor formative pentru susţinerea activităţii proprii de învăţare a elevului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6.08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Evaluarea formativă are cele mai bune rezultate când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Elevilor le este dată o imagine clară a ceea ce trebuie să înveţe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Elevii prim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sc răspunsuri continue cu privire la progresul lor în relaţie cu obiectivele propuse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Elevii îşi evaluează propriile progrese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rofesorii furnizează instrucţiuni clare cu privire la paşii pe care elevii trebuie să-i urmeze pentru a avea succes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(Black &amp; Wiliam, 1998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AE99-CA5D-4852-A981-3ED70EC0814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9040" y="134640"/>
            <a:ext cx="899460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2 </a:t>
            </a:r>
            <a:r>
              <a:rPr b="1" lang="en-US" sz="1100" spc="-1" strike="noStrike">
                <a:solidFill>
                  <a:srgbClr val="0860a8"/>
                </a:solidFill>
                <a:latin typeface="Verdana"/>
              </a:rPr>
              <a:t>30 min</a:t>
            </a: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S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usţinerea activităţii proprii de învăţare a elevului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4600" y="1275840"/>
            <a:ext cx="8720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111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Analizați următoarele studii de caz în care evaluările formative sunt folosite pentru a diferenţia învăţarea şi a susţine elevii în activitatea proprie de învăţare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111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60a8"/>
              </a:solidFill>
              <a:latin typeface="Verdana"/>
            </a:endParaRPr>
          </a:p>
          <a:p>
            <a:pPr lvl="1" marL="111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1.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eschideţi resursa Evaluarea Proiectelo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http://educate.intel.com/ro/assessingprojects/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11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Ent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111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3. Click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rivire de ansamblu şi beneficii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111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4.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vi-VN" sz="2000" spc="-1" strike="noStrike">
                <a:solidFill>
                  <a:srgbClr val="0860a8"/>
                </a:solidFill>
                <a:latin typeface="Verdana"/>
              </a:rPr>
              <a:t>Evaluarea formativă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111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5. Selectaţi I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nstruirii diferenţiate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şi mai jos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Studiile de caz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in al doilea câmp marcat din dreapta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111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6.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escărcaţi documentul în format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Microsoft Word*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şi salvaţi-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111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7.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troduceţi observaţii cum ar fi întrebări, legături cu propriile experienţe sau idei. Discutaţi aceste observaţii cu partenerul dumneavoastră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6106-EA13-4290-BA43-C6EF3840001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6: 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e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000"/>
            </a:br>
            <a:br>
              <a:rPr sz="9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2</a:t>
            </a:r>
            <a:br>
              <a:rPr sz="22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S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usţinerea activităţii proprii de învăţare a elevului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 2: Crearea unei evaluări pentru a susţine activitatea proprie de învăţare a elevului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(6.09) </a:t>
            </a:r>
            <a:r>
              <a:rPr b="1" lang="ro-RO" sz="1100" spc="-1" strike="noStrike">
                <a:solidFill>
                  <a:srgbClr val="0860a8"/>
                </a:solidFill>
                <a:latin typeface="Verdana"/>
              </a:rPr>
              <a:t>30 min</a:t>
            </a:r>
            <a:endParaRPr b="0" lang="en-US" sz="11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Creaţi o evaluare care ajută elevii să preia mai mult controlul propriului studiu, cum ar fi o evaluare care să faciliteze auto-organizarea, auto-evaluarea şi reflecţia. Alege dintre următoarele opţiuni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4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Optiunea  1: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Creaţi o nouă evaluare </a:t>
            </a:r>
            <a:r>
              <a:rPr b="0" lang="ro-RO" sz="1000" spc="-1" strike="noStrike">
                <a:solidFill>
                  <a:srgbClr val="0860a8"/>
                </a:solidFill>
                <a:latin typeface="Verdana"/>
              </a:rPr>
              <a:t>(page 6.10)</a:t>
            </a: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4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Optiunea 2: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Modificaţi o evaluare existentă </a:t>
            </a:r>
            <a:r>
              <a:rPr b="0" lang="ro-RO" sz="1000" spc="-1" strike="noStrike">
                <a:solidFill>
                  <a:srgbClr val="0860a8"/>
                </a:solidFill>
                <a:latin typeface="Verdana"/>
              </a:rPr>
              <a:t>folosind  aplicaţia </a:t>
            </a:r>
            <a:r>
              <a:rPr b="0" i="1" lang="ro-RO" sz="1000" spc="-1" strike="noStrike">
                <a:solidFill>
                  <a:srgbClr val="0860a8"/>
                </a:solidFill>
                <a:latin typeface="Verdana"/>
              </a:rPr>
              <a:t>Assessing Projects </a:t>
            </a:r>
            <a:r>
              <a:rPr b="0" lang="ro-RO" sz="1000" spc="-1" strike="noStrike">
                <a:solidFill>
                  <a:srgbClr val="0860a8"/>
                </a:solidFill>
                <a:latin typeface="Verdana"/>
              </a:rPr>
              <a:t>(page 6.10)</a:t>
            </a: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Optiunea 3: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Descărcaţi şi modificaţi o evaluare din secţiunea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instruirii diferenţiate  </a:t>
            </a:r>
            <a:r>
              <a:rPr b="0" lang="ro-RO" sz="1000" spc="-1" strike="noStrike">
                <a:solidFill>
                  <a:srgbClr val="0860a8"/>
                </a:solidFill>
                <a:latin typeface="Verdana"/>
              </a:rPr>
              <a:t>de la </a:t>
            </a:r>
            <a:r>
              <a:rPr b="0" i="1" lang="ro-RO" sz="1000" spc="-1" strike="noStrike">
                <a:solidFill>
                  <a:srgbClr val="0860a8"/>
                </a:solidFill>
                <a:latin typeface="Verdana"/>
              </a:rPr>
              <a:t>Assessing Projects </a:t>
            </a:r>
            <a:r>
              <a:rPr b="0" lang="ro-RO" sz="1000" spc="-1" strike="noStrike">
                <a:solidFill>
                  <a:srgbClr val="0860a8"/>
                </a:solidFill>
                <a:latin typeface="Verdana"/>
              </a:rPr>
              <a:t>(page 6.11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4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Optiunea 4:</a:t>
            </a:r>
            <a:r>
              <a:rPr b="0" lang="ro-RO" sz="1000" spc="-1" strike="noStrike">
                <a:solidFill>
                  <a:srgbClr val="0860a8"/>
                </a:solidFill>
                <a:latin typeface="Verdana"/>
              </a:rPr>
              <a:t> Creaţi o evaluare folosind software de procesare a documentelor (page 6.11)</a:t>
            </a: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43E2-6976-4EFB-92FB-D11E53A82A7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2320" y="272520"/>
            <a:ext cx="83106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0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3 </a:t>
            </a:r>
            <a:r>
              <a:rPr b="1" lang="en-US" sz="1100" spc="-1" strike="noStrike">
                <a:solidFill>
                  <a:srgbClr val="0860a8"/>
                </a:solidFill>
                <a:latin typeface="Verdana"/>
              </a:rPr>
              <a:t>1 ora</a:t>
            </a:r>
            <a:br>
              <a:rPr sz="22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Crea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rea materialelor suport pentru a facilita succesul elevilor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1880" y="1792440"/>
            <a:ext cx="8237520" cy="39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1: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Explorarea resurselor de materiale (formulare, şabloane, etc..) pentru a facilita învăţarea independentă a elevilor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12)15mi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zualizaţi exemplele de şabloane, formulare şi documente localizate în fişierul Modul 6, Activitatea 3 de pe CD resurse curriculum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ce şabloane, formulare sau alte documente aţi folosi în unitatea de învăţare pentru a susţine învăţarea independentă a elev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 Su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sţinerea gândirii matematic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1" lang="en-US" sz="1600" spc="-1" strike="noStrike">
                <a:solidFill>
                  <a:srgbClr val="ff5c00"/>
                </a:solidFill>
                <a:latin typeface="Verdana"/>
              </a:rPr>
              <a:t>6.13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10 mi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la anumite metode prin care aţi putea integra matematica în unitatea dvs. precizaţi ideile la pagina 6.13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147E-E5FC-44DC-BFD4-143ABE91DA5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404640"/>
            <a:ext cx="823752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Activitatea 3  Crearea materialelor suport pentru a facilita succesul elevilor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1880" y="1384200"/>
            <a:ext cx="823752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 3: Crearea unor resurse suport pentru elevi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6.14)35 m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legeţi una din următoarele opţiuni pentru a crea o resursă pe care elevii o vor folosi pentru a susţine activitatea independentă de învăţare în cadrul unităţii ale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Optiunea 1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Creaţi un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document 1 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(page 6.14)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grafice, tabele, schem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Optiunea 2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Creaţi un document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şablon 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(page 6.15) ghid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activ 10.4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Optiunea  3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Creaţi un şablon de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rezentar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(page 6.15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Optiunea  4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Creaţi un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formula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page 6.16) 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ghid activ 10.1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alvaţi in asistenţă uni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Creşterea rolului resurselor 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Încorporaţi gândirea matematică în resursa  suport a elevilor (page 6.16) introducerea de formule grafice, tabele, sche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C8D8-C52D-44B5-963B-9B5FF6BAAD8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tea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4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100" spc="-1" strike="noStrike">
                <a:solidFill>
                  <a:srgbClr val="0860a8"/>
                </a:solidFill>
                <a:latin typeface="Verdana"/>
              </a:rPr>
              <a:t>15 min</a:t>
            </a:r>
            <a:br>
              <a:rPr sz="11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Revi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zuirea planului unităţii de învăţare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18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1880" y="1618920"/>
            <a:ext cx="82375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hideţi Planul unităţii de învăţ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hideţi şi revizuiţi “Lista de verificare a Planului Unităţii de învăţare” salvată în folderul unit_plan din folderul Portofoliu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vizuiţi secţiunea Planului de Evaluare pentru a include evaluări suplimentare în care elevii planifică şi fac alegeri cu privire la activitatea proprie, se gândesc la procesele lor de gândire (metacogniţie) şi evaluează progresul propriu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if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caţi secţiunea Proceduri de instruire în funcţie de aspectele avute în vede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zuiţi secţiunea Strategii pentru instruire diferenţiată folosind ce aţi învăţat în acest modu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alvaţi planul unităţii de învăţ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3185-5E96-4567-A1B6-73FB1EF379C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e am studi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9280" y="1198440"/>
            <a:ext cx="82375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 1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Predarea bazată pe proiec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Bazele învăţării prin proiecte şi design-ul unităţii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2: Plan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ificarea propriei unităţi d e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Dezvoltarea întrebărilor de încadrare a curriculumului şi evaluarea continuă centrată pe elev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3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Realizarea conexiuni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Internetul ca suport pentru predare şi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4: Cr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earea exemplelor de învăţa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Rezultatele proiectelor elev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 (pr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zentăr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, public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ţi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, wiki, blo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5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Evaluarea proiectelor elevi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Evaluarea formativă şi sumativă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CC12-8ACF-4F5E-A70E-584CF881D4A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5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15 min</a:t>
            </a:r>
            <a:br>
              <a:rPr sz="12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Refle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ctarea asupra propriei învăţări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19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74760" y="1371600"/>
            <a:ext cx="832464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1: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Recapitularea modului (10 mi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unctele cheie ale modului 6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Tran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ziţia la învăţarea centrată pe ele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necesită adaptări atât din p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tea elevilor cât şi a profesorilo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rofesorii trebuie să lucreze cu elevii pentru a-i ajuta să-şi dezvolte abilităţile d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văţare independent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levii trebuie să aibă un rol activ în procesul de învăţar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rofesori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pot utiliza strategii diferenţiate din perspectiva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inutulu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c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lu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d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selor fina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Mediului de învăţ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rofesorii trebuie să aibă în vedere diferitele stiluri de învăţar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prijinirea nevoilor tuturor elevilo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necesită un cadrul corespunzător astfel încât elevii să devină încrezători şi independenţ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1666-B9B6-4988-AE69-9AA959F2262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ilor</a:t>
            </a:r>
            <a:br>
              <a:rPr sz="1000"/>
            </a:br>
            <a:br>
              <a:rPr sz="9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5</a:t>
            </a:r>
            <a:br>
              <a:rPr sz="22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Refle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ctarea asupra propriei învăţări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1880" y="1501560"/>
            <a:ext cx="823752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registrarea reflecţiilor pe blog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19)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5 mi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ţi asupra activităţilor, capacităţilor şi abordărilor discutate în acest modul şi apoi deschideţi blog-ul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ţi asupra aspectelor în care acest modul v-a ajutat să planificaţi şi să creaţi unitatea de învăţare răspunzând la întrebări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um îi pot ajuta pe elevii mei să-şi organizeze propria activitate de învăţare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um pot susţine diversele nevoi ale elevilor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ce impact vor avea cunoştinţele câştigate din acest modul asupra modului dvs. de predare şi asupra studiului elevilor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registraţi părerile, reflecţiile, întrebările şi îngrijorările pe blo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B943-AED2-4470-A8C9-721F07101C6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000"/>
            </a:br>
            <a:br>
              <a:rPr sz="9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Plan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ificarea în avans</a:t>
            </a:r>
            <a:br>
              <a:rPr sz="22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lanificarea în avans a materialelor de facilitare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: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Gândiţi-vă în avans la utilitatea resurselor de facilitare pentru unitatea dvs. de învăţ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6.2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La paginile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6.21–6.22,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sunt prezentate strategii de predare pe care profesorii ar trebui să le includă în diferitele etape ale planificării unităţi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La începutul unităţii de învăţare, includeţi strategii pentru stabilirea obiective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În timpul unităţii includeţi strategii pentru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n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torizarea progresului pentru atingerea obiectivel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rodu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rea cunoştinţelor no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xersarea, revizuirea şi aplicarea cunoştinţel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La finalul unităţii de învăţare, includeţi strategii pentru a ajuta elevii să determine cât de bine şi-au atins obiective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7757-24E7-4DE0-893A-0493C20AF8D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000"/>
            </a:br>
            <a:br>
              <a:rPr sz="9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Plan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ificarea în avans</a:t>
            </a:r>
            <a:br>
              <a:rPr sz="22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lanificarea în avans a materialelor de facilitare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1880" y="1530360"/>
            <a:ext cx="82375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Brainstorming – materiale de facilitare create pentru unitatea de învăţa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2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materiale de facilitare aţi creat deja pe care doriţi să le folosiţi neschimbate sau să le modificaţi pentru unitatea dv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materiale de suport pentru profesor v-ar ajuta să fiţi mai eficien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materiale noi de facilitare ar îmbunătăţi învăţarea elevilor dvs.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materiale suplimentare de facilitare ar fi utile pentru a facilita implementarea unităţii dv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3609-A4BD-4764-80AA-A3DBA0580BE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Privind înainte!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3680" y="719280"/>
          <a:ext cx="8218440" cy="5425920"/>
        </p:xfrm>
        <a:graphic>
          <a:graphicData uri="http://schemas.openxmlformats.org/drawingml/2006/table">
            <a:tbl>
              <a:tblPr/>
              <a:tblGrid>
                <a:gridCol w="2628720"/>
                <a:gridCol w="55897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7: Facilita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are prin tehnologi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Focus:</a:t>
                      </a:r>
                      <a:r>
                        <a:rPr b="0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rofesorul ca facilit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zultate aşteptate</a:t>
                      </a:r>
                      <a:r>
                        <a:rPr b="1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Folosirea întrebărilor pentru a promova gândirea de nivel superior şi pentru a implica elev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uto-evaluarea facilităţilor create pentru a le adapta învăţării centrate pe elev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 materialelor de facilit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 unui plan de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mplement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vi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zuirea planului unităţii de învăţar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flecţii asupra propriei învăţări pe blog şi discuţii cu partener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Loca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lizarea resurselor de Internet pentru profeso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0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13" descr="intelEDU_4c_lrg [Converted]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2007-03-05LogoSIVECO15aniCertif_Ro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2C5E-0189-4D25-92AF-B9B9C96DC5B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809880" y="1300320"/>
            <a:ext cx="4851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5034960" y="49021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7624-5AA3-41CD-B536-423B906FC1A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Picture 15" descr="IM000069"/>
          <p:cNvPicPr/>
          <p:nvPr/>
        </p:nvPicPr>
        <p:blipFill>
          <a:blip r:embed="rId1"/>
          <a:stretch/>
        </p:blipFill>
        <p:spPr>
          <a:xfrm>
            <a:off x="0" y="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8840" y="4459320"/>
            <a:ext cx="83012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ule 6: Plan</a:t>
            </a: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ificarea pentru succesul elevului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1FF2-467F-4DBA-A2BA-0A7C8A61AAD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73120" y="32868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e studie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565200" y="1528920"/>
            <a:ext cx="3892680" cy="42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Focus: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Materiale suport pentru elevi şi dezvoltarea gândirii proprii a acesto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19" descr="GM__2346"/>
          <p:cNvPicPr/>
          <p:nvPr/>
        </p:nvPicPr>
        <p:blipFill>
          <a:blip r:embed="rId1"/>
          <a:stretch/>
        </p:blipFill>
        <p:spPr>
          <a:xfrm>
            <a:off x="4659480" y="14400"/>
            <a:ext cx="4484520" cy="59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8BE2-6141-4032-A37B-A0B788A3A5A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8080" y="272880"/>
            <a:ext cx="8612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4760" y="871560"/>
            <a:ext cx="8324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unctele cheie ale modului 6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Tranziţia la învăţarea centrată pe elev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necesită adaptări atât din partea elevilor cât şi a profesorilor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rofesorii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trebuie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să lucreze cu elevii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entru a-i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juta să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-şi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dezvolte abilităţile de învăţare independentă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Elevii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trebuie să aibă un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rol activ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în procesul de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învăţare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rofesorii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pot utiliza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strategii diferenţiate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in perspectiva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ff0000"/>
                </a:solidFill>
                <a:latin typeface="Verdana"/>
              </a:rPr>
              <a:t>Conţinutulu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ff0000"/>
                </a:solidFill>
                <a:latin typeface="Verdana"/>
              </a:rPr>
              <a:t>Procesulu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ff0000"/>
                </a:solidFill>
                <a:latin typeface="Verdana"/>
              </a:rPr>
              <a:t>Produselor fina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ff0000"/>
                </a:solidFill>
                <a:latin typeface="Verdana"/>
              </a:rPr>
              <a:t>Mediului de învăţa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rofesorii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trebuie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să aibă în vedere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iferitele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stiluri de învăţare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rin sprijinirea nevoilor elevilor ei devin încrezători şi independenţi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221B-F2DE-476F-BF82-FF7598054C7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860a8"/>
                </a:solidFill>
                <a:latin typeface="Verdana"/>
                <a:ea typeface="Times New Roman"/>
              </a:rPr>
              <a:t>Rezultate aşteptate</a:t>
            </a:r>
            <a:r>
              <a:rPr b="0" lang="en-US" sz="3200" spc="-1" strike="noStrike">
                <a:solidFill>
                  <a:srgbClr val="0860a8"/>
                </a:solidFill>
                <a:latin typeface="Verdana"/>
                <a:ea typeface="Times New Roman"/>
              </a:rPr>
              <a:t>: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5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Cercetarea strategiilor pentru instruirea diferenţiată;</a:t>
            </a:r>
            <a:endParaRPr b="0" lang="en-US" sz="21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Crearea unei evaluări care să încurajeze autonomia în    gândire a elevului;</a:t>
            </a:r>
            <a:endParaRPr b="0" lang="en-US" sz="21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Crearea materialelor suport pentru elev;</a:t>
            </a:r>
            <a:endParaRPr b="0" lang="en-US" sz="21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Revizuirea planului unităţii de învăţare din perspectiva planificării pentru succesul elevului;</a:t>
            </a:r>
            <a:endParaRPr b="0" lang="en-US" sz="21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Reflectare asupra propriei învăţări pe blog;</a:t>
            </a:r>
            <a:endParaRPr b="0" lang="en-US" sz="21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4F7E-2FE8-488E-9302-EB4A61ADE86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851360" y="272880"/>
            <a:ext cx="75898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Întrebarea esenţială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856040" y="1371600"/>
            <a:ext cx="3892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46240" indent="-244800">
              <a:lnSpc>
                <a:spcPct val="10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poate fi folosită tehnologia cel mai eficient pentru a susţine şi evalua învăţarea elev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Întrebările modulului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îi pot ajuta pe elevi să-şi formeze auto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o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a în gândi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pot susţine diversele nevoi de învăţare ale  elev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6" descr="GM__2186"/>
          <p:cNvPicPr/>
          <p:nvPr/>
        </p:nvPicPr>
        <p:blipFill>
          <a:blip r:embed="rId1"/>
          <a:stretch/>
        </p:blipFill>
        <p:spPr>
          <a:xfrm>
            <a:off x="0" y="14400"/>
            <a:ext cx="4691160" cy="60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B3E4-7362-4A15-8B06-045FF91D7AC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4251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860a8"/>
                </a:solidFill>
                <a:latin typeface="Verdana"/>
              </a:rPr>
              <a:t>Ce mai avem de studiat?</a:t>
            </a:r>
            <a:endParaRPr b="1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1880" y="186660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7: Facil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itarea învăţării prin tehnologie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Profesorul ca facilitat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8: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Prezentarea portofoliilor unităţilor de învăţa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S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chimb de opinii cu privire la portofoliile realiza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291A-8079-4D4A-AFEA-6A6C16E4AD2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60a8"/>
                </a:solidFill>
                <a:latin typeface="Verdana"/>
              </a:rPr>
              <a:t>Lucraţi în perechi şi comunicaţi</a:t>
            </a:r>
            <a:r>
              <a:rPr b="1" lang="en-US" sz="1100" spc="-1" strike="noStrike">
                <a:solidFill>
                  <a:srgbClr val="0860a8"/>
                </a:solidFill>
                <a:latin typeface="Verdana"/>
              </a:rPr>
              <a:t>15min </a:t>
            </a:r>
            <a:r>
              <a:rPr b="0" lang="en-US" sz="1000" spc="-1" strike="noStrike">
                <a:solidFill>
                  <a:srgbClr val="0860a8"/>
                </a:solidFill>
                <a:latin typeface="Verdana"/>
              </a:rPr>
              <a:t>(6.01) </a:t>
            </a:r>
            <a:br>
              <a:rPr sz="2400"/>
            </a:b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0860a8"/>
                </a:solidFill>
                <a:latin typeface="Verdana"/>
              </a:rPr>
              <a:t>Exemplul pentru elevi şi modul de evalua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3720" y="1341360"/>
            <a:ext cx="884700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Deschideţi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Planul unităţii de învăţare</a:t>
            </a: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 şi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Aplicaţia</a:t>
            </a: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 creată din perspectiva elevului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Răspundeţi la întrebările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6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Evaluarea vizează obiectivele unităţii de învăţare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6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Planul de evaluare descrie clar şi detaliat rezultatele aşteptate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6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Evaluarea este în concordanţă cu întrebarea esenţială şi de unitate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6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Exemplu creta din perspectiva elevului are în vedere rezultatele şi aşteptările dorite ale evaluării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info2</cp:lastModifiedBy>
  <cp:lastPrinted>2006-11-14T00:45:04Z</cp:lastPrinted>
  <dcterms:modified xsi:type="dcterms:W3CDTF">2011-04-02T10:01:17Z</dcterms:modified>
  <cp:revision>232</cp:revision>
  <dc:subject/>
  <dc:title>Presentation Title Goes Here</dc:title>
</cp:coreProperties>
</file>